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BEF-A04A-4BD5-8CEA-6C3CEFA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ACC-8C22-4B7C-BD31-5CA86F12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80E-8354-4618-9619-B7F3338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57C-AA80-4407-8CF3-21BA9142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CF7A-BCF7-4316-9289-4DD3418C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45F5-8DF6-4D5B-A926-9F6B6FA1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1EB3-4AAF-493D-BD84-0B798EE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582B-7E89-4DAD-837D-B600FAD3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AFF5-004B-4478-AB42-0ACD5C7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967B-9474-477E-8E36-B7E9ADCF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B52B-D5D5-4194-90EC-1CD7D87F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113-738C-4150-A0B4-2D538FC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D629-F783-4867-8175-9F0D3F8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FA5B-5474-4246-95DB-4665ADC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255-24BA-4129-956F-3020BCA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327E-F169-4D57-8F8F-36BC8F15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001-63A9-4272-BA20-E173499C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B09-11A3-430E-8CD5-CB83000C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055-7F7C-4FA6-9F43-933F741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FA5-8FB4-467E-9AF7-16279FA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EDA-329D-429B-A0A1-0818861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899-23F4-4C5B-AB5D-315F14F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F99-B3EE-4D38-B16D-4926399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09B-902B-4B69-8721-E0E2903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248-EB72-4578-A8D3-BA651FAB66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5280" y="5004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2160" y="262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2000" y="1403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78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5800" y="19260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15F-7425-471D-9A7C-FA916EDC7A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rdean2@ilstu.edu" TargetMode="External"/><Relationship Id="rId2" Type="http://schemas.openxmlformats.org/officeDocument/2006/relationships/hyperlink" Target="http://ci306-4.wikispac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&amp;I 306, Section 04 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5320"/>
            <a:ext cx="6032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nuary 14, 20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make a name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o you believe in? Why do you want to teach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ther words…. What is your why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 a minute &amp; write your one sentence why on your name car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prezi.com/ln4lsuf6cex6/what-is-literacy/?auth_key=8950d5f73c53ea9607c2f8d076811f9987aac9a3&amp;kw=view-ln4lsuf6cex6&amp;rc=ref-112956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Wiki and Tech Tools we’ll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Content Placeholder 5" descr="6_28 iphone import 030.JPG"/>
          <p:cNvPicPr/>
          <p:nvPr/>
        </p:nvPicPr>
        <p:blipFill>
          <a:blip r:embed="rId1"/>
          <a:stretch/>
        </p:blipFill>
        <p:spPr>
          <a:xfrm>
            <a:off x="1143000" y="1685880"/>
            <a:ext cx="3483000" cy="46450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6" descr="sync 7_5_11 006.JPG"/>
          <p:cNvPicPr/>
          <p:nvPr/>
        </p:nvPicPr>
        <p:blipFill>
          <a:blip r:embed="rId2"/>
          <a:stretch/>
        </p:blipFill>
        <p:spPr>
          <a:xfrm>
            <a:off x="4800600" y="1676520"/>
            <a:ext cx="3483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 small groups (3-4 peo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out the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things you have in common (not things like we all have 2 arms, we all have on cloth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ready to share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ease use ilstu email to contact me at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dean2@ilstu.edu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Department policy) I can only use your university email address to correspond with yo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gnments and resources will be placed on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course wiki :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i306-4.wikispaces.com/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kendallhunt.com/store-product.aspx?id=626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ebcom8.grtxle.com/index.cfm?cu=literacyl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labus Review/Course Wik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llabus is posted on the cours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ew Course Calen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Next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get your Text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course 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dropbox folder and share with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Chapter 1, The Right to Liter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troubleshoo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44:25Z</dcterms:created>
  <dc:creator>VeselakC</dc:creator>
  <dc:description/>
  <dc:language>en-US</dc:language>
  <cp:lastModifiedBy>netsetup</cp:lastModifiedBy>
  <dcterms:modified xsi:type="dcterms:W3CDTF">2013-01-16T16:14:38Z</dcterms:modified>
  <cp:revision>71</cp:revision>
  <dc:subject/>
  <dc:title>C&amp;I 209, Section 01 Welcome!</dc:title>
</cp:coreProperties>
</file>